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DE2-F587-44A7-9511-F9A41648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ECA-2487-4E37-AF5D-14B78932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69E-7777-4085-B481-710FA54D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945-71FF-4B86-8BFC-51CFCB4D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9739-0F9E-41C4-B1FE-5DB1A4C2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10B9-522B-4477-8B7E-054E510A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834D-1B5F-429C-8A4C-CC8D483F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87D1-B95B-40FF-B8AB-0E978B4E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366F-5171-48DF-8EF0-BE634B77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716C-DC89-4B71-90C7-E33F5DF9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A81F-073F-4B32-B246-3E508A64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6E1-21C3-4D77-BDD3-D5750A8D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908D-5D1F-4AFC-AADA-21546E5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E58B-8138-4EA8-BFB4-2A302FD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2F60-88BF-40A8-BDF8-CB42BBF0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981E-0D0F-42E5-AD1F-4A78BBF4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C07F-699D-4929-8EE7-AC1D291A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64C-686E-4332-B50D-173872E6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AE6-9D60-4486-9610-7DEA4B99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1DC-AD9D-4CF4-9205-6454876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0CB-09BC-4FC2-B43E-09F3FC5B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2E3-430A-4203-9428-A48DDB54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6140-CF83-455A-8DC3-0845E69F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7E2-3105-4198-8E02-0F00A3F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0D5E-176D-406D-A6B3-0911DD2E9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E446-C6BF-4EFF-9471-CAA8D9E65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mplex Rational Expres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 #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-21 o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fraction is being divided by another fraction, then keep the top fraction the same and multiply by the reciprocal of the bottom f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3886200" y="1523880"/>
                <a:ext cx="99072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3886200" y="1409760"/>
                <a:ext cx="99072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an addition or subtraction problem in either fraction, then you need to find a common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3200400" y="1981080"/>
                <a:ext cx="23241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971800" y="1600200"/>
                <a:ext cx="2905200" cy="44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971800" y="1600200"/>
                <a:ext cx="2905200" cy="44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773360" y="1744560"/>
                <a:ext cx="5302080" cy="414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8:36:30Z</dcterms:created>
  <dc:creator>Parkland High School</dc:creator>
  <dc:description/>
  <dc:language>en-US</dc:language>
  <cp:lastModifiedBy>test</cp:lastModifiedBy>
  <dcterms:modified xsi:type="dcterms:W3CDTF">2015-05-08T12:01:47Z</dcterms:modified>
  <cp:revision>3</cp:revision>
  <dc:subject/>
  <dc:title>Complex Rational Expressions</dc:title>
</cp:coreProperties>
</file>